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1AB7-8DB2-4272-9C85-00EEA7D64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07AE-9B8D-430C-BD10-2E0C720C7C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D7D8-83B3-464F-9855-DB2257CAA0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54E3-0810-4B93-A06B-E99A70BDBB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4AE2-A812-44D3-A6B4-9EFD18430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548F-9018-43E2-9168-0B35720CCC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531A-12D8-4A82-9969-F474D52F25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51DC-FE0B-4008-81C3-0E20D70D1D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F517-55FD-4CE2-9331-6135AC75AB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06BA-699D-40C3-ACAB-023988B4E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DCBB-2380-4269-8466-1C83C7158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A69-1794-49EC-A8E0-A44FA6C147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639E-EC5F-4508-A33F-5DF231BB8B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5644-384B-4C25-AA5D-2BC899B2A5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F46E-B751-4A91-873F-5CEF902806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17B9-198B-490E-A720-D5E564BAE5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0E3E-BA28-4956-B597-B7E895F57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42C6-26FF-4C2C-8253-B7BE11DA5E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E728-16ED-4936-AB79-C18CF48F2D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6880-9C6C-4BE3-AF0E-D6A41377B3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F621-A2D1-4FAB-8A9D-E9A7901EFE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EAA0-3E9A-4A50-A287-765AF192A8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F7C-3795-4C61-8946-708FE38A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78E-FF51-44AB-BAED-0F249112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B83-910D-49FF-9E02-AE49C456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EB9-ED1C-44DA-A7E1-058681AC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DB60-7FCE-46DA-85BD-1560A21D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F273-539C-4B2D-823E-8AD803C0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CD39-EF22-4D1B-84BD-88B4574F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7533-09DA-4839-829E-E2B7331F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9678-1C9A-4BE3-99EA-B4635F0D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D098-C387-445A-AD57-D46AEF3D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D8FA-B8CE-46FE-B465-759F953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3C1-66FC-434A-B6DC-1F192849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3835-C66B-408E-BD09-86F217EB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267C-6C92-4BB3-B9DC-E8225C0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F7ED-AAF1-45F1-9857-8253167D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3B53-3CD0-4422-B102-D1D3C089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510B-A256-46CC-A3DC-43B6584F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8A8-E226-4468-B643-B8E4095E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3F8-1DDF-4309-9FEA-5382D48C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0BD-2D67-4C0D-8EA9-E07AB7D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965-32AF-4CCD-BD94-68D11A6D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629-ED30-4E47-88EF-91CF384A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AFD-BCD8-4F4F-844F-5B56DBC6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6FA-EBD2-4B5F-BFFE-3029903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DDD8-300D-4F88-8E38-8E8928989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09CE-04F1-447A-9452-C51307A4D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sheep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04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himpanzee"/>
          <p:cNvPicPr/>
          <p:nvPr/>
        </p:nvPicPr>
        <p:blipFill>
          <a:blip r:embed="rId2"/>
          <a:stretch/>
        </p:blipFill>
        <p:spPr>
          <a:xfrm>
            <a:off x="0" y="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rat"/>
          <p:cNvPicPr/>
          <p:nvPr/>
        </p:nvPicPr>
        <p:blipFill>
          <a:blip r:embed="rId3"/>
          <a:stretch/>
        </p:blipFill>
        <p:spPr>
          <a:xfrm>
            <a:off x="2743200" y="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40ae8"/>
                </a:solidFill>
                <a:latin typeface="Arial Black"/>
              </a:rPr>
              <a:t>Magnificent </a:t>
            </a:r>
            <a:br>
              <a:rPr sz="6600"/>
            </a:br>
            <a:r>
              <a:rPr b="1" lang="en-US" sz="6600" spc="-1" strike="noStrike">
                <a:solidFill>
                  <a:srgbClr val="340ae8"/>
                </a:solidFill>
                <a:latin typeface="Arial Black"/>
              </a:rPr>
              <a:t>Mammal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ae8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ae8"/>
                </a:solidFill>
                <a:latin typeface="Arial"/>
              </a:rPr>
              <a:t>Vertebrates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bottlenose dolphin"/>
          <p:cNvPicPr/>
          <p:nvPr/>
        </p:nvPicPr>
        <p:blipFill>
          <a:blip r:embed="rId4"/>
          <a:stretch/>
        </p:blipFill>
        <p:spPr>
          <a:xfrm>
            <a:off x="-3048120" y="-2286000"/>
            <a:ext cx="25592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Placental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43400" y="1219320"/>
            <a:ext cx="450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st of animals in many differen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gestation peri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ere the developing baby spends a specific time in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te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c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a special organ that surrounds and protects the developing baby and allow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utr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pass from mom to ba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omestica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bred by humans, who are als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cental mamm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9" descr="rabbit2"/>
          <p:cNvPicPr/>
          <p:nvPr/>
        </p:nvPicPr>
        <p:blipFill>
          <a:blip r:embed="rId1"/>
          <a:stretch/>
        </p:blipFill>
        <p:spPr>
          <a:xfrm>
            <a:off x="0" y="21337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Rodent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eth specialized for gn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use, rat, be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beaver"/>
          <p:cNvPicPr/>
          <p:nvPr/>
        </p:nvPicPr>
        <p:blipFill>
          <a:blip r:embed="rId1"/>
          <a:stretch/>
        </p:blipFill>
        <p:spPr>
          <a:xfrm>
            <a:off x="5011560" y="2319480"/>
            <a:ext cx="37404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Chiropte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mbrano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o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use sound waves to locate prey an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bat"/>
          <p:cNvPicPr/>
          <p:nvPr/>
        </p:nvPicPr>
        <p:blipFill>
          <a:blip r:embed="rId1"/>
          <a:stretch/>
        </p:blipFill>
        <p:spPr>
          <a:xfrm>
            <a:off x="228600" y="2133720"/>
            <a:ext cx="446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Insectivo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ng n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ly e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rew,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shrew"/>
          <p:cNvPicPr/>
          <p:nvPr/>
        </p:nvPicPr>
        <p:blipFill>
          <a:blip r:embed="rId1"/>
          <a:stretch/>
        </p:blipFill>
        <p:spPr>
          <a:xfrm>
            <a:off x="4724280" y="1981080"/>
            <a:ext cx="42148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Carnivo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rge carn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t for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g, cat. Fox, bear, racc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artic fox"/>
          <p:cNvPicPr/>
          <p:nvPr/>
        </p:nvPicPr>
        <p:blipFill>
          <a:blip r:embed="rId1"/>
          <a:stretch/>
        </p:blipFill>
        <p:spPr>
          <a:xfrm>
            <a:off x="457200" y="2133720"/>
            <a:ext cx="39276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Prim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ed for living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telli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osable thum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impanzee, spider monkey,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chimpanzee"/>
          <p:cNvPicPr/>
          <p:nvPr/>
        </p:nvPicPr>
        <p:blipFill>
          <a:blip r:embed="rId1"/>
          <a:stretch/>
        </p:blipFill>
        <p:spPr>
          <a:xfrm>
            <a:off x="5073480" y="2209680"/>
            <a:ext cx="4070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Artiodacty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gul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have hoo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n-to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stomach that helps break dow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nt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eep, cow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9" descr="cow"/>
          <p:cNvPicPr/>
          <p:nvPr/>
        </p:nvPicPr>
        <p:blipFill>
          <a:blip r:embed="rId1"/>
          <a:stretch/>
        </p:blipFill>
        <p:spPr>
          <a:xfrm>
            <a:off x="838080" y="2689200"/>
            <a:ext cx="39276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Perissodacty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gu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as hoov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dd to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r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rhinoc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horse"/>
          <p:cNvPicPr/>
          <p:nvPr/>
        </p:nvPicPr>
        <p:blipFill>
          <a:blip r:embed="rId1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Cetace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ine mamm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ve blowhole to release g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whales, dolph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7" descr="killer whale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Lagomorph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pair of lo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ci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s specialized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rabbits and h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rabbit"/>
          <p:cNvPicPr/>
          <p:nvPr/>
        </p:nvPicPr>
        <p:blipFill>
          <a:blip r:embed="rId1"/>
          <a:stretch/>
        </p:blipFill>
        <p:spPr>
          <a:xfrm>
            <a:off x="5462640" y="1905120"/>
            <a:ext cx="2836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Classification</a:t>
            </a:r>
            <a:br>
              <a:rPr sz="4400"/>
            </a:b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f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are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gdom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im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lum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hor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phylum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erteb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amm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primatemandrill"/>
          <p:cNvPicPr/>
          <p:nvPr/>
        </p:nvPicPr>
        <p:blipFill>
          <a:blip r:embed="rId1"/>
          <a:stretch/>
        </p:blipFill>
        <p:spPr>
          <a:xfrm>
            <a:off x="5334120" y="1981080"/>
            <a:ext cx="3254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Siren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 mam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ine mammals that live in shallow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manatee, dug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" descr="manatee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Proboscide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bosc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tru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have long incisors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us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 eleph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neral Characteristics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f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ha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i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rom a lot to a litt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ecialized Te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dothermic bodi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arm-blooded, maintain constant body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mmary Gla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used to feed and care for newborn you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c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st have these—supports and protects the developing embry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aphrag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uscle that is used for breathing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Specialized Teeth in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cialized tee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begin with a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lk teeth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t that they lose to make roo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manent te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lionasianbaby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es of Tee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ap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mammal teeth depends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at to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ee main types of tee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cis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b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n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stabbing and ho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l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crushing and gr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If the tooth fit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mammals have different types of teeth depending o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d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large can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rbivor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large, flat mol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squirrel"/>
          <p:cNvPicPr/>
          <p:nvPr/>
        </p:nvPicPr>
        <p:blipFill>
          <a:blip r:embed="rId1"/>
          <a:stretch/>
        </p:blipFill>
        <p:spPr>
          <a:xfrm>
            <a:off x="5484960" y="1905120"/>
            <a:ext cx="2793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ree Main Types of Mam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notre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ay eg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supi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ave pouches used to care for you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cent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ave a uterus and placen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duck billed platypus"/>
          <p:cNvPicPr/>
          <p:nvPr/>
        </p:nvPicPr>
        <p:blipFill>
          <a:blip r:embed="rId1"/>
          <a:stretch/>
        </p:blipFill>
        <p:spPr>
          <a:xfrm>
            <a:off x="685800" y="1523880"/>
            <a:ext cx="2362320" cy="178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rat"/>
          <p:cNvPicPr/>
          <p:nvPr/>
        </p:nvPicPr>
        <p:blipFill>
          <a:blip r:embed="rId2"/>
          <a:stretch/>
        </p:blipFill>
        <p:spPr>
          <a:xfrm>
            <a:off x="304920" y="335268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kangaroo"/>
          <p:cNvPicPr/>
          <p:nvPr/>
        </p:nvPicPr>
        <p:blipFill>
          <a:blip r:embed="rId3"/>
          <a:stretch/>
        </p:blipFill>
        <p:spPr>
          <a:xfrm>
            <a:off x="3048120" y="2057400"/>
            <a:ext cx="1670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0ae8"/>
                </a:solidFill>
                <a:latin typeface="Arial Black"/>
              </a:rPr>
              <a:t>Order Monotrema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gg-laying mamm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ly found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tilian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a cloaca and egg la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mammalian features li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ir and mammary 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spiny anteater"/>
          <p:cNvPicPr/>
          <p:nvPr/>
        </p:nvPicPr>
        <p:blipFill>
          <a:blip r:embed="rId1"/>
          <a:stretch/>
        </p:blipFill>
        <p:spPr>
          <a:xfrm>
            <a:off x="5105520" y="2209680"/>
            <a:ext cx="38019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Marsupia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ng are born in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ature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abi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velop in a pou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found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ustra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ut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ossu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located on other conti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angaroo, wallaby, tasmanian devil, koala, oposs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kangaroo"/>
          <p:cNvPicPr/>
          <p:nvPr/>
        </p:nvPicPr>
        <p:blipFill>
          <a:blip r:embed="rId1"/>
          <a:stretch/>
        </p:blipFill>
        <p:spPr>
          <a:xfrm>
            <a:off x="5640480" y="1905120"/>
            <a:ext cx="2482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4:37:29Z</dcterms:created>
  <dc:creator>kmcgrady</dc:creator>
  <dc:description/>
  <dc:language>en-US</dc:language>
  <cp:lastModifiedBy>fhsstudent</cp:lastModifiedBy>
  <dcterms:modified xsi:type="dcterms:W3CDTF">2011-05-11T18:58:08Z</dcterms:modified>
  <cp:revision>9</cp:revision>
  <dc:subject/>
  <dc:title>Magnificent  Mammals</dc:title>
</cp:coreProperties>
</file>